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37F-B32C-46A3-B4CE-0585C06D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3EA-3AEC-4E40-BCBF-674DA6E2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24A-EC07-45D8-BBCB-938F34A3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C76-0CEA-42C3-B0DD-C8B0B610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1D5F-5A19-4835-A408-7F72020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DE63-9A80-4B28-9550-3DD958F3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5A34-57D3-44F2-ADF0-700406D4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523D-26AB-4E25-B436-8872F80B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F0C-A763-4D43-8E25-391E4A58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CDA2-AEFD-4B8B-9CB2-5438162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F441-745F-476F-8792-A7399A6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4D3-F102-4CF8-91DC-FF0B615E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6A6D-20FB-43B1-A9D0-B639592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73EB-CA7F-4CAF-A819-FC0D5AE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9110-F6E6-4195-B720-B25B5FD7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1E65-8D4B-4BFA-BD1A-17E18321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2C8-61C0-4FAA-9C92-4EBE4DFD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59D-3632-4F98-B538-3694DEA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828-2E8E-4334-B18C-593AE05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337-5D31-408F-8E34-39E03C5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B26-A3EE-442E-83E8-3A605D48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853-296E-40A5-A475-00D16C3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D43-3F1A-4A87-8CAF-9C5B57DE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033-17AA-45CD-8CB2-74FF94F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B253-57E2-4A66-BD20-EDC0ABC623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9E0F-15DB-48D8-906E-6FB5033E9D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62,2,&#1057;&#1088;&#1072;&#1074;&#1085;&#1080;&#1090;&#1077; &#1087;&#1088;&#1077;&#1076;&#1083;&#1086;&#1078;&#1077;&#1085;&#1080;&#1103;:" TargetMode="External"/><Relationship Id="rId3" Type="http://schemas.openxmlformats.org/officeDocument/2006/relationships/hyperlink" Target="6. &#1058;&#1077;&#1084;&#1099;, &#1085;&#1072;&#1089; &#1080;&#1085;&#1090;&#1077;&#1088;&#1077;&#1089;&#1091;&#1102;&#1097;&#1080;&#1077;:" TargetMode="External"/><Relationship Id="rId4" Type="http://schemas.openxmlformats.org/officeDocument/2006/relationships/hyperlink" Target="260,7,&#1069;&#1090;&#1072;&#1087;&#1099; &#1087;&#1088;&#1086;&#1074;&#1077;&#1076;&#1077;&#1085;&#1080;&#1103; &#1087;&#1088;&#1086;&#1077;&#1082;&#1090;&#1072;:" TargetMode="External"/><Relationship Id="rId5" Type="http://schemas.openxmlformats.org/officeDocument/2006/relationships/hyperlink" Target="263,9,&#1048;&#1085;&#1092;&#1086;&#1088;&#1084;&#1072;&#1094;&#1080;&#1086;&#1085;&#1085;&#1099;&#1077;  &#1088;&#1077;&#1089;&#1091;&#1088;&#1089;&#1099;: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План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Тем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Этап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Ресурс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ОСНОВНЫЕ    РАЗДЕЛЫ   КУРС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16320" y="1817280"/>
            <a:ext cx="6110640" cy="3459600"/>
            <a:chOff x="1516320" y="1817280"/>
            <a:chExt cx="6110640" cy="3459600"/>
          </a:xfrm>
        </p:grpSpPr>
        <p:sp>
          <p:nvSpPr>
            <p:cNvPr id="99" name="_s138248"/>
            <p:cNvSpPr/>
            <p:nvPr/>
          </p:nvSpPr>
          <p:spPr>
            <a:xfrm>
              <a:off x="3746520" y="2430360"/>
              <a:ext cx="1652760" cy="1755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8249"/>
            <p:cNvSpPr/>
            <p:nvPr/>
          </p:nvSpPr>
          <p:spPr>
            <a:xfrm>
              <a:off x="3746520" y="181728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38250"/>
            <p:cNvSpPr/>
            <p:nvPr/>
          </p:nvSpPr>
          <p:spPr>
            <a:xfrm>
              <a:off x="4290840" y="3433680"/>
              <a:ext cx="1652760" cy="17557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8251"/>
            <p:cNvSpPr/>
            <p:nvPr/>
          </p:nvSpPr>
          <p:spPr>
            <a:xfrm>
              <a:off x="5974200" y="483804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П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38252"/>
            <p:cNvSpPr/>
            <p:nvPr/>
          </p:nvSpPr>
          <p:spPr>
            <a:xfrm>
              <a:off x="3200040" y="3432240"/>
              <a:ext cx="1652760" cy="17557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38253"/>
            <p:cNvSpPr/>
            <p:nvPr/>
          </p:nvSpPr>
          <p:spPr>
            <a:xfrm>
              <a:off x="1516320" y="4836240"/>
              <a:ext cx="1652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Б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Темы, нас интересу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сочинен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подчиненные предложения </a:t>
            </a:r>
            <a:r>
              <a:rPr b="0" lang="en-US" sz="3000" spc="-1" strike="noStrike">
                <a:solidFill>
                  <a:srgbClr val="000000"/>
                </a:solidFill>
                <a:latin typeface="Castellar"/>
              </a:rPr>
              <a:t>(с придаточными определительными, изъяснительными, обстоятельственными, условные, сравнительные, уступительные, образа действия и степени, места, времени, причины, цели, следств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ессоюзные слож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420840"/>
            <a:ext cx="7985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2T09:44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